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DD6-D17F-4764-BF99-9FB051F8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F61-F72C-4806-BD06-D1F874F8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592-3D56-4660-BB68-576577BA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56D-B55A-40FE-AEFD-35FA3FAC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873-C265-4062-A6E0-BE807E69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7FF-6FF5-440A-BB1D-8479FD68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5CE-D4B3-4313-A5FC-24F49CA2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BD2-17F3-41FF-A30E-0967729C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517-556B-4BC0-953A-603C734C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994-62CE-470A-AB59-5707BEC2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77A-5B2E-41B4-89F9-D3BFE96C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7FF-F805-4212-AD26-6F14F62B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616B-B50F-42A8-B917-E549AFDB0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ds.yahoo.com/_ylt=A0geu9Vem6hHGjkAGcxXNyoA;_ylu=X3oDMTBzb3JwbzQ3BHNlYwNzYwRjb2xvA2FjMgR2dGlkA00wMDFfODk-/SIG=1iqv6us6o/EXP=1202318558/**http%3A//images.search.yahoo.com/images/view%3Fback=http%253A%252F%252Fsearch.yahoo.com%252Fsearch%253Fei%253DUTF-8%2526p%253Dpictures%252Bof%252Bamerican%252Bmoney%2526vm%253Dr%26w=380%26h=285%26imgurl=www.istockphoto.com%252Ffile_thumbview_approve%252F455084%252F2%252Fistockphoto_455084_money_fan.jpg%26size=48.2%26name=istockphoto_455084_money_fan.jpg%26rcurl=http%253A%252F%252Fwww.istockphoto.com%252Fimageindex%252F455%252F0%252F455084%26rurl=http%253A%252F%252Fwww.istockphoto.com%252Fimageindex%252F455%252F0%252F455084%26p=american%2Bmoney%26type=jpeg%26no=3%26tt=79%252C551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rel.gov/data/pix/Jpegs/0008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nrel.gov/data/pix/Jpegs/10470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nrel.gov/data/pix/Jpegs/03246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533520"/>
            <a:ext cx="64008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c3d91">
                        <a:alpha val="9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Biom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c3d91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4343400"/>
            <a:ext cx="82296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By: Brodey and Josh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380880"/>
            <a:ext cx="7619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Carbon Cyc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52480" y="3048120"/>
            <a:ext cx="1447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rops like cor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32004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9880" y="3048120"/>
            <a:ext cx="12668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 finely grou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5000" y="3048120"/>
            <a:ext cx="2819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d separated into their component sug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320040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3809880"/>
            <a:ext cx="762120" cy="1295640"/>
          </a:xfrm>
          <a:prstGeom prst="downArrow">
            <a:avLst>
              <a:gd name="adj1" fmla="val 50000"/>
              <a:gd name="adj2" fmla="val 425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5880" y="5562720"/>
            <a:ext cx="2590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sugars are distilled to make ethano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5715000"/>
            <a:ext cx="380880" cy="228600"/>
          </a:xfrm>
          <a:prstGeom prst="leftArrow">
            <a:avLst>
              <a:gd name="adj1" fmla="val 50000"/>
              <a:gd name="adj2" fmla="val 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971800" y="556272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ich can be used as an alternative fu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5715000"/>
            <a:ext cx="30492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5486400"/>
            <a:ext cx="1985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ich releases carbon dioxi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 rot="19239600">
            <a:off x="1143000" y="4495320"/>
            <a:ext cx="457200" cy="838440"/>
          </a:xfrm>
          <a:prstGeom prst="upArrow">
            <a:avLst>
              <a:gd name="adj1" fmla="val 50000"/>
              <a:gd name="adj2" fmla="val 458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 rot="17201400">
            <a:off x="-218160" y="3951720"/>
            <a:ext cx="2189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 is reabsorbed by the original cro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 rot="3477600">
            <a:off x="1333440" y="339048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38080" y="304920"/>
            <a:ext cx="71629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Types Of Biom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bag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fill G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coh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119880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33720" y="2057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447920" y="3429000"/>
            <a:ext cx="108108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80880" y="4800600"/>
            <a:ext cx="1203480" cy="1419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133720" y="4800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2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2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32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82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32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820"/>
                            </p:stCondLst>
                            <p:childTnLst>
                              <p:par>
                                <p:cTn id="1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320"/>
                            </p:stCondLst>
                            <p:childTnLst>
                              <p:par>
                                <p:cTn id="19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820"/>
                            </p:stCondLst>
                            <p:childTnLst>
                              <p:par>
                                <p:cTn id="1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ss can make a variety of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 through 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tically inexhaustible fuel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clean-burn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3520" y="3049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Advantag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3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8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iomass is released carbon dioxide is released into the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erials are very expen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www.istockphoto.com/file_thumbview_approve/455084/2/istockphoto_455084_money_f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429000"/>
            <a:ext cx="3581280" cy="2678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276720" y="1676520"/>
            <a:ext cx="685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$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66680" y="1523880"/>
            <a:ext cx="685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$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2286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isadvantag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791320" y="4191120"/>
            <a:ext cx="1685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mass is a renewable energy 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Biomass is renewable it pollutes the 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657600" cy="3360960"/>
          </a:xfrm>
          <a:prstGeom prst="rect">
            <a:avLst/>
          </a:prstGeom>
          <a:ln w="0">
            <a:noFill/>
          </a:ln>
        </p:spPr>
      </p:pic>
      <p:sp>
        <p:nvSpPr>
          <p:cNvPr id="75" name="Tree"/>
          <p:cNvSpPr/>
          <p:nvPr/>
        </p:nvSpPr>
        <p:spPr>
          <a:xfrm>
            <a:off x="1828800" y="2819520"/>
            <a:ext cx="1523880" cy="15811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47920" y="380880"/>
            <a:ext cx="6248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newable Energy Sour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9000"/>
                            </p:stCondLst>
                            <p:childTnLst>
                              <p:par>
                                <p:cTn id="3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105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3650"/>
                            </p:stCondLst>
                            <p:childTnLst>
                              <p:par>
                                <p:cTn id="409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4650"/>
                            </p:stCondLst>
                            <p:childTnLst>
                              <p:par>
                                <p:cTn id="416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iomass provides 3% of the united states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es not depend on fossil fu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iomass can still pollute the air but not as much as fossil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0" b="28848"/>
          <a:stretch/>
        </p:blipFill>
        <p:spPr>
          <a:xfrm>
            <a:off x="304920" y="1752480"/>
            <a:ext cx="4332240" cy="3587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914400" y="304920"/>
            <a:ext cx="7238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mpact on the Environmen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55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bout 3 percent of biomass is used in the U.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es it can be used in Pennsylv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y use biomass for making energy from wood trash and other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228600"/>
            <a:ext cx="7543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iomass Used in the United Stat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52280" y="1905120"/>
            <a:ext cx="4496040" cy="36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Photo of Wood Chi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809880"/>
            <a:ext cx="3047760" cy="2435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Photo of a Corn Stov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762120"/>
            <a:ext cx="3248280" cy="2595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Photo of Switchgra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981080"/>
            <a:ext cx="3021120" cy="3781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80880" y="6324480"/>
            <a:ext cx="2743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od chi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52880" y="5943600"/>
            <a:ext cx="3029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gr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3352680"/>
            <a:ext cx="2828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rn sto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7:13:23Z</dcterms:created>
  <dc:creator>default</dc:creator>
  <dc:description/>
  <dc:language>en-US</dc:language>
  <cp:lastModifiedBy>default</cp:lastModifiedBy>
  <dcterms:modified xsi:type="dcterms:W3CDTF">2008-02-21T17:25:44Z</dcterms:modified>
  <cp:revision>24</cp:revision>
  <dc:subject/>
  <dc:title>Slide 1</dc:title>
</cp:coreProperties>
</file>